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5F28-7A4A-4409-A4BD-61BBF9F9EB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B87-EA1C-451A-A653-C876D07F31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AC5-5A8F-48B9-B3E8-92D583BE20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FB2-7D51-4B21-871D-BE4C217DA9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937-7B1B-4EFE-BF3F-892BE370C7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EB8-95CD-47AA-A90D-59A5D2646B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B94C-0662-4882-AD88-278170D7F2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61A-DC56-48B8-A135-CB866FE0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787-8BAA-4FC3-9AB3-D0C010A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D95-2458-4E8E-A622-CD53B434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751-7227-4D53-AA1B-1150D73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E8A-0F4E-4097-82EF-7CADDF0C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E9C-E912-4F0D-B2EC-9455C956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FD5-8C0A-4196-99D4-97A338A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FAE-1E88-4A51-B3A9-FF491B2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D2F-E4C9-446D-A312-563647A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5FD-33BC-4801-9C0C-D8E127AC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B6D-CBE1-4B01-98FF-B3C9627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CE6-CDAC-49CA-8778-926DAD7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2CF-75FC-4C2C-B6AE-6593156DB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5160" y="11430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ch Savvy Seniors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Cybersecurity Refres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C:\Program Files (x86)\Microsoft Office XP\Media\CntCD1\ClipArt5\j0285374.wmf"/>
          <p:cNvPicPr/>
          <p:nvPr/>
        </p:nvPicPr>
        <p:blipFill>
          <a:blip r:embed="rId2"/>
          <a:stretch/>
        </p:blipFill>
        <p:spPr>
          <a:xfrm>
            <a:off x="304920" y="3641760"/>
            <a:ext cx="3200400" cy="296208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3657600" y="3591000"/>
            <a:ext cx="4572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Woodrising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Neighbourhood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Centre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ff0000"/>
                </a:solidFill>
                <a:uFillTx/>
                <a:latin typeface="Calibri"/>
              </a:rPr>
              <a:t>Survey</a:t>
            </a:r>
            <a:r>
              <a:rPr b="1" lang="en-AU" sz="4400" spc="-1" strike="noStrike">
                <a:solidFill>
                  <a:srgbClr val="ff0000"/>
                </a:solidFill>
                <a:latin typeface="Calibri"/>
              </a:rPr>
              <a:t> - Have Yo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Up to date antivir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838080" y="24382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A Firewal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838080" y="329076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Passwords like 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Mha11ifwwa5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838080" y="5018040"/>
            <a:ext cx="7991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Read ‘The Little Black Book of Scams’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838080" y="4129200"/>
            <a:ext cx="7991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Installed unwanted program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5T10:28:10Z</dcterms:modified>
  <cp:revision>134</cp:revision>
  <dc:subject/>
  <dc:title>Where To Start</dc:title>
</cp:coreProperties>
</file>